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4499-BCE2-4DC6-B0A8-DB2210564C1E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F2F3-B2EB-4235-8FED-E07C23EC3443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269-0ED3-4009-AC07-CE1B3B09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17A-1787-409F-B1C1-CFACBD1E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61D-27E4-4C4A-B0C7-7675556C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E5C-572A-4A78-96B6-F7166329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1F8C-AB80-48A2-8486-A3E39279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E537-9C4C-4FEC-ABB6-17F69944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C14A-5722-4FF7-BB0E-40058DF6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CE7E-73D4-4B5A-A947-D2155131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B4AF-614A-4169-89DE-AD4FF744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2CDB-225F-4C30-9E5C-89F2A1E3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F8DA-5690-4008-A5F5-54A4A9DC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8AB-7D1E-4D89-9A13-CB769492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13DB-C69C-42C4-90C9-AD30C231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4C25-8CF1-45A9-A1B3-2FD09EC0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BC07-EC3F-488E-A6E8-6AB6C669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F92E-60B7-4971-ADF3-509EDBE6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0BF3-667C-4B92-8F55-A062FBC8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BD0D-2119-4CDB-B8CB-13D58A0F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0B9C-325C-4847-89A0-CF542E4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004E-8FCD-4066-B5B8-A79DFF3F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B581-D0F4-48A2-A77E-925134C9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F788-860B-4805-B346-797B0F68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C0E-F3A8-4A0B-975E-552E43F0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13B7-63B6-4981-9B11-386520FF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15D4-6225-41E0-B73D-1231CF2C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17B5-7B80-4B61-A619-BB2EBBC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7F4E-01ED-42FB-B035-0BBCA2AD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BE8D-6CA1-4F14-A92B-7A7784B5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FB4E-CB12-4809-8FA5-86923EF3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827C-F418-47A6-95F9-83691329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11397-8C8E-4211-AD65-E64ADA31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EA26-825C-4F3C-84B6-FC317FF5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721A-3327-47F5-BEB7-AE9A40E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FB1-93A0-41B7-A289-B906F333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1B17-154F-4FF2-A7D0-CF6EC4BA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7BF8-8116-4902-83AE-92E54A30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9FD6E-6651-4058-90B4-5974E6B9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1F70C-8A34-46CA-8258-AEC446CC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89DB-D2DE-43A3-9DD5-DB58B77E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EC3BC-DA2D-4ABC-B054-B806DD7E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FFC29-536C-46E0-A385-52492499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29AB-B152-420A-9E69-A19E72F3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E322D-C442-49B1-988A-75A92CA1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8E2-63D8-4631-B231-9E7F3352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945-1E73-4C64-ADB3-1F9EF137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1C6-4BD8-4142-ABEC-CD6B157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55A-8B42-4292-94AE-9274F90B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4FE-DD89-486D-846C-E0D2016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423A-9D06-4E06-9263-FF3D557960E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785C-CF6E-4E02-8BF8-7781459D78A0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AA4D-943B-47ED-BE96-BD96DF6799FE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A106-725C-498E-B02A-B91C1935B115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ED90-588D-4097-BF24-9F2A9D35D033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B89B-AD84-4786-9C03-83D433F431CE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A99-C330-492A-83E7-4E3336FF7C1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18D-4B33-44C5-9161-E671481EB47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93560" y="1566720"/>
            <a:ext cx="7864560" cy="2219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5143680"/>
            <a:ext cx="7854840" cy="1357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onstantia"/>
              </a:rPr>
              <a:t>CORPADE LUCIA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onstantia"/>
              </a:rPr>
              <a:t>COLEGIUL TEHNIC TÂRNĂVEN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428840" y="785880"/>
            <a:ext cx="650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METODICA  PREDĂRII  ÎN  ATELIERELE  ŞCOALĂ  A INSTALAŢIEI  DE  APRINDERE  A  AUTOMOBIL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BDD7-4AAE-4E2A-A343-E68D0F44EF69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FUNCŢIONAREA INSTALAŢIEI DE APRINDE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onstantia"/>
              </a:rPr>
              <a:t>Instalaţia de aprindere are rolul de a produce scânteia electrică, prin obţinerea unei tensiuni înalte între electozii bujiei, capabilă să aprindă amestecul carburant format din benzină şi aer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0CFB-0036-4406-A9F3-998A58C376F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m31-Aprindere.avi" descr=""/>
          <p:cNvPicPr/>
          <p:nvPr/>
        </p:nvPicPr>
        <p:blipFill>
          <a:blip r:embed="rId1"/>
          <a:stretch/>
        </p:blipFill>
        <p:spPr>
          <a:xfrm>
            <a:off x="1258920" y="142920"/>
            <a:ext cx="6487920" cy="648792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1F13-501C-44B0-AA44-4B07076A07A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100" spc="-1" strike="noStrike">
                <a:solidFill>
                  <a:srgbClr val="04617b"/>
                </a:solidFill>
                <a:latin typeface="Calibri"/>
              </a:rPr>
              <a:t>PĂRŢI COMPONENTE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42560" y="1934640"/>
            <a:ext cx="8543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Bateria de acumulato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Contactul cu che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Bobina de inducţ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Ruptor-distribuit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 (delcou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Fişe de înaltă tensiu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Buj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m32-Aprindere (analiza).avi" descr=""/>
          <p:cNvPicPr/>
          <p:nvPr/>
        </p:nvPicPr>
        <p:blipFill>
          <a:blip r:embed="rId1"/>
          <a:stretch/>
        </p:blipFill>
        <p:spPr>
          <a:xfrm>
            <a:off x="4857840" y="1714680"/>
            <a:ext cx="4167000" cy="416700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0BB8-5096-46D0-A2E3-33D58DE5E1D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BOBINA DE INDUCŢI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14200" y="2214720"/>
            <a:ext cx="4214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are rolul de a transforma curentul de joasă tensiune primit de la acumulator în curent de înaltă tensiune capabil să străpungă spaţiul dintre electrozii buji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ste formată d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- înfăşurarea primară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- înfăşurarea secundară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- miez magnet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- carcasă de ebonită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m34-Bobina de inductie.avi" descr=""/>
          <p:cNvPicPr/>
          <p:nvPr/>
        </p:nvPicPr>
        <p:blipFill>
          <a:blip r:embed="rId1"/>
          <a:stretch/>
        </p:blipFill>
        <p:spPr>
          <a:xfrm>
            <a:off x="4429080" y="1857240"/>
            <a:ext cx="4527720" cy="45277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B94F-C2A5-4140-94FF-DCE14D98A87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RUPTOR-DISTRIBUITO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42920" y="2286000"/>
            <a:ext cx="4071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- ruptor distribuitorul are rolul de a închide şi deschide în mod automat circuitul de joasă tensiune şi de a distribui curentul de înaltă tensiune la cilindrii motorul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- ruptorul este format din placa contactelor pe care se montează cele două contacte ale ruptorului fix şi mob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m33-Delcou.avi" descr=""/>
          <p:cNvPicPr/>
          <p:nvPr/>
        </p:nvPicPr>
        <p:blipFill>
          <a:blip r:embed="rId1"/>
          <a:stretch/>
        </p:blipFill>
        <p:spPr>
          <a:xfrm>
            <a:off x="4429080" y="1857240"/>
            <a:ext cx="4502160" cy="4502160"/>
          </a:xfrm>
          <a:prstGeom prst="rect">
            <a:avLst/>
          </a:prstGeom>
          <a:ln w="0">
            <a:noFill/>
          </a:ln>
        </p:spPr>
      </p:pic>
      <p:sp>
        <p:nvSpPr>
          <p:cNvPr id="22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1A4-5697-41B2-B5A2-9C44ABC5EC3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BUJ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14200" y="200016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Bujia are rolul de a produce scânteia electrică necesară aprinderii amestecului car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- Părţi compon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Corpul metal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Izolatorul ceram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Electrozi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m35-Bujie-s.avi" descr=""/>
          <p:cNvPicPr/>
          <p:nvPr/>
        </p:nvPicPr>
        <p:blipFill>
          <a:blip r:embed="rId1"/>
          <a:stretch/>
        </p:blipFill>
        <p:spPr>
          <a:xfrm>
            <a:off x="4286160" y="1643040"/>
            <a:ext cx="4643640" cy="464364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E1F4-329D-43C2-9BC9-2C652F28A63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4:58:35Z</dcterms:created>
  <dc:creator>Maria</dc:creator>
  <dc:description/>
  <dc:language>en-US</dc:language>
  <cp:lastModifiedBy>user</cp:lastModifiedBy>
  <dcterms:modified xsi:type="dcterms:W3CDTF">2018-07-26T07:49:06Z</dcterms:modified>
  <cp:revision>52</cp:revision>
  <dc:subject/>
  <dc:title>INSTALAŢIA DE APRINDERE</dc:title>
</cp:coreProperties>
</file>